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92A-699F-49B5-A808-9284D4C2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F12-5F78-4B02-8843-E5788E72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7E5-FB77-4CCF-8DFB-3F296557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E77-1CCF-4DBF-82B8-FD277149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D03-74D2-466C-89F3-DA889C81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EDC-6012-4A2E-97EB-E9D46B82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DC6-B47E-4E79-9B88-D2B72CA4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858-C0D6-46AC-93C9-D54EF177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EF3-285D-48C2-87CD-E8F757EE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78A-512E-4C2F-89D8-46E9623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254-67E2-4E79-B0C7-17019A18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007-A2B4-46CD-B5E2-99C0F80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0277-D908-4B56-8F4D-10FDB95E0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20.xml"/><Relationship Id="rId17" Type="http://schemas.openxmlformats.org/officeDocument/2006/relationships/slide" Target="slide22.xml"/><Relationship Id="rId18" Type="http://schemas.openxmlformats.org/officeDocument/2006/relationships/slide" Target="slide24.xml"/><Relationship Id="rId19" Type="http://schemas.openxmlformats.org/officeDocument/2006/relationships/slide" Target="slide26.xml"/><Relationship Id="rId20" Type="http://schemas.openxmlformats.org/officeDocument/2006/relationships/slide" Target="slide28.xml"/><Relationship Id="rId21" Type="http://schemas.openxmlformats.org/officeDocument/2006/relationships/slide" Target="slide30.xml"/><Relationship Id="rId22" Type="http://schemas.openxmlformats.org/officeDocument/2006/relationships/slide" Target="slide32.xml"/><Relationship Id="rId23" Type="http://schemas.openxmlformats.org/officeDocument/2006/relationships/slide" Target="slide34.xml"/><Relationship Id="rId24" Type="http://schemas.openxmlformats.org/officeDocument/2006/relationships/slide" Target="slide36.xml"/><Relationship Id="rId25" Type="http://schemas.openxmlformats.org/officeDocument/2006/relationships/slide" Target="slide38.xml"/><Relationship Id="rId26" Type="http://schemas.openxmlformats.org/officeDocument/2006/relationships/slide" Target="slide40.xml"/><Relationship Id="rId27" Type="http://schemas.openxmlformats.org/officeDocument/2006/relationships/slide" Target="slide42.xml"/><Relationship Id="rId28" Type="http://schemas.openxmlformats.org/officeDocument/2006/relationships/slide" Target="slide44.xml"/><Relationship Id="rId29" Type="http://schemas.openxmlformats.org/officeDocument/2006/relationships/slide" Target="slide44.xml"/><Relationship Id="rId30" Type="http://schemas.openxmlformats.org/officeDocument/2006/relationships/slide" Target="slide48.xml"/><Relationship Id="rId31" Type="http://schemas.openxmlformats.org/officeDocument/2006/relationships/slide" Target="slide50.xml"/><Relationship Id="rId32" Type="http://schemas.openxmlformats.org/officeDocument/2006/relationships/slide" Target="slide2.xml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7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8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7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8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9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1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2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ise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as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ur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Hers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d of genre Hersey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Hers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“nonfiction novel” - mixes fact with some f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ision the woman claims to see on the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lames/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that is happening in the last excer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alking through the cold to a new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objects that are Elie’s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spoon and 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of the vio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Jewish culture (both got crushed/smashed through this orde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e W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on the Nobel Peace Prize for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rony in Rabbi Eliahou who will “continue to look for his beloved so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his “beloved son” left him - not so bel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Dr. Masakazu Fujii (3rd story) was sa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boards caught him like chopsticks just keeping his head abov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rony in Miss Toshiko Sasaki’s story (last one - with boo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books are meant to help people learn &amp; grow and they are crushing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queness of Dr. Masakazu Fujii’s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t was private so the families came with the sick to take car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rony in Dr. Terufumi Sasaki’s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patient was terrified of dying from syphil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e W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uman rights speeches/activ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bjective statements from this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100,000 people were killed, the population, warnings &amp; all clears, Japanese words, no sound, hospital rules, Army dugouts, death ceremoni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me shotwell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j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that happens if they turn their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“bird” (bomb) is rel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the narrator does that’s strange - must include specific object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rite on the wall with the DIA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e repetition in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show that they are going crazy - or - to show that they are separating from the “norm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 O’Br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ce where O’Brien got all of his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reasons the men believe they are down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y are in an experiment AND they were forgotten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ic with which Paul wishes to discuss with his 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Vietnam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y in which this story is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252396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4th of Ju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in which Paul’s friend Max 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drow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al conflict Paul is ha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didn’t get the Silver Star or the Medal of Honor - he should have been more courage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 O’Br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served in the Vietnam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rony in the A &amp; W sc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no one wants to talk with Paul about the war and they didn’t believe it was really a war, but they use war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Hers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of Hersey’s works (where he got the ideas fr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Hers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was a journalist (traveled to different places, especially Hiroshi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ald Barthel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thelme’s main struggle in writing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ald Barthel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ords/the correct wo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6-05-04T16:03:44Z</dcterms:modified>
  <cp:revision>50</cp:revision>
  <dc:subject/>
  <dc:title>No Slide Title</dc:title>
</cp:coreProperties>
</file>